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74440" y="58320"/>
            <a:ext cx="815004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74440" y="58320"/>
            <a:ext cx="815004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74440" y="58320"/>
            <a:ext cx="815004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163"/>
          <p:cNvPicPr/>
          <p:nvPr/>
        </p:nvPicPr>
        <p:blipFill>
          <a:blip r:embed="rId2"/>
          <a:stretch/>
        </p:blipFill>
        <p:spPr>
          <a:xfrm>
            <a:off x="1987560" y="1486080"/>
            <a:ext cx="7156440" cy="5371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68360" y="0"/>
            <a:ext cx="142920" cy="685800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3"/>
          <p:cNvSpPr/>
          <p:nvPr/>
        </p:nvSpPr>
        <p:spPr>
          <a:xfrm>
            <a:off x="0" y="6621480"/>
            <a:ext cx="9144000" cy="236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-6480" y="-44280"/>
            <a:ext cx="9154800" cy="6903360"/>
            <a:chOff x="-6480" y="-44280"/>
            <a:chExt cx="9154800" cy="6903360"/>
          </a:xfrm>
        </p:grpSpPr>
        <p:sp>
          <p:nvSpPr>
            <p:cNvPr id="44" name="AutoShape 10"/>
            <p:cNvSpPr/>
            <p:nvPr/>
          </p:nvSpPr>
          <p:spPr>
            <a:xfrm>
              <a:off x="36360" y="-5760"/>
              <a:ext cx="9072000" cy="68284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-6480" y="-44280"/>
              <a:ext cx="457200" cy="45072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440" y="6322680"/>
              <a:ext cx="387360" cy="5364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8746560" y="6392880"/>
              <a:ext cx="401760" cy="46332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8684640" y="-44280"/>
              <a:ext cx="457200" cy="460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grpSp>
        <p:nvGrpSpPr>
          <p:cNvPr id="49" name="Rectangle 13"/>
          <p:cNvGrpSpPr/>
          <p:nvPr/>
        </p:nvGrpSpPr>
        <p:grpSpPr>
          <a:xfrm>
            <a:off x="73080" y="828720"/>
            <a:ext cx="8997840" cy="85680"/>
            <a:chOff x="73080" y="828720"/>
            <a:chExt cx="8997840" cy="85680"/>
          </a:xfrm>
        </p:grpSpPr>
        <p:pic>
          <p:nvPicPr>
            <p:cNvPr id="50" name="Rectangle 13" descr=""/>
            <p:cNvPicPr/>
            <p:nvPr/>
          </p:nvPicPr>
          <p:blipFill>
            <a:blip r:embed="rId3"/>
            <a:stretch/>
          </p:blipFill>
          <p:spPr>
            <a:xfrm>
              <a:off x="73080" y="828720"/>
              <a:ext cx="899784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5"/>
            <p:cNvSpPr/>
            <p:nvPr/>
          </p:nvSpPr>
          <p:spPr>
            <a:xfrm>
              <a:off x="79200" y="836640"/>
              <a:ext cx="8984880" cy="6984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d5fcfb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pic>
        <p:nvPicPr>
          <p:cNvPr id="52" name="Picture 25" descr="2"/>
          <p:cNvPicPr/>
          <p:nvPr/>
        </p:nvPicPr>
        <p:blipFill>
          <a:blip r:embed="rId4"/>
          <a:stretch/>
        </p:blipFill>
        <p:spPr>
          <a:xfrm>
            <a:off x="210960" y="17640"/>
            <a:ext cx="665280" cy="823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"/>
          <p:cNvSpPr/>
          <p:nvPr/>
        </p:nvSpPr>
        <p:spPr>
          <a:xfrm>
            <a:off x="0" y="6621480"/>
            <a:ext cx="9144000" cy="236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-6480" y="-44280"/>
            <a:ext cx="9154800" cy="6903360"/>
            <a:chOff x="-6480" y="-44280"/>
            <a:chExt cx="9154800" cy="6903360"/>
          </a:xfrm>
        </p:grpSpPr>
        <p:sp>
          <p:nvSpPr>
            <p:cNvPr id="95" name="AutoShape 10"/>
            <p:cNvSpPr/>
            <p:nvPr/>
          </p:nvSpPr>
          <p:spPr>
            <a:xfrm>
              <a:off x="36360" y="-5760"/>
              <a:ext cx="9072000" cy="68284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-6480" y="-44280"/>
              <a:ext cx="457200" cy="45072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440" y="6322680"/>
              <a:ext cx="387360" cy="5364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8746560" y="6392880"/>
              <a:ext cx="401760" cy="46332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8684640" y="-44280"/>
              <a:ext cx="457200" cy="460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grpSp>
        <p:nvGrpSpPr>
          <p:cNvPr id="100" name="Rectangle 13"/>
          <p:cNvGrpSpPr/>
          <p:nvPr/>
        </p:nvGrpSpPr>
        <p:grpSpPr>
          <a:xfrm>
            <a:off x="73080" y="828720"/>
            <a:ext cx="8997840" cy="85680"/>
            <a:chOff x="73080" y="828720"/>
            <a:chExt cx="8997840" cy="85680"/>
          </a:xfrm>
        </p:grpSpPr>
        <p:pic>
          <p:nvPicPr>
            <p:cNvPr id="101" name="Rectangle 13" descr=""/>
            <p:cNvPicPr/>
            <p:nvPr/>
          </p:nvPicPr>
          <p:blipFill>
            <a:blip r:embed="rId3"/>
            <a:stretch/>
          </p:blipFill>
          <p:spPr>
            <a:xfrm>
              <a:off x="73080" y="828720"/>
              <a:ext cx="899784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5"/>
            <p:cNvSpPr/>
            <p:nvPr/>
          </p:nvSpPr>
          <p:spPr>
            <a:xfrm>
              <a:off x="79200" y="836640"/>
              <a:ext cx="8984880" cy="6984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d5fcfb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pic>
        <p:nvPicPr>
          <p:cNvPr id="103" name="Picture 25" descr="2"/>
          <p:cNvPicPr/>
          <p:nvPr/>
        </p:nvPicPr>
        <p:blipFill>
          <a:blip r:embed="rId4"/>
          <a:stretch/>
        </p:blipFill>
        <p:spPr>
          <a:xfrm>
            <a:off x="210960" y="17640"/>
            <a:ext cx="665280" cy="823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2"/>
          <p:cNvPicPr/>
          <p:nvPr/>
        </p:nvPicPr>
        <p:blipFill>
          <a:blip r:embed="rId1"/>
          <a:stretch/>
        </p:blipFill>
        <p:spPr>
          <a:xfrm>
            <a:off x="76320" y="276120"/>
            <a:ext cx="2001600" cy="2476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25"/>
          <p:cNvSpPr/>
          <p:nvPr/>
        </p:nvSpPr>
        <p:spPr>
          <a:xfrm>
            <a:off x="2340000" y="476280"/>
            <a:ext cx="6481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Итоги целевой программы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Курганской области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«Социальное развитие села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Курганской области до 2013 года»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и направления дальнейшего развития сельских территорий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4800" y="158400"/>
            <a:ext cx="8151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юджетное финансирование мероприятий целевой программы  «Социальное развитие села Курганской области до 2013 года», млн.руб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5280" y="1450800"/>
            <a:ext cx="8064360" cy="5764320"/>
            <a:chOff x="395280" y="1450800"/>
            <a:chExt cx="8064360" cy="5764320"/>
          </a:xfrm>
        </p:grpSpPr>
        <p:graphicFrame>
          <p:nvGraphicFramePr>
            <p:cNvPr id="147" name=""/>
            <p:cNvGraphicFramePr/>
            <p:nvPr/>
          </p:nvGraphicFramePr>
          <p:xfrm>
            <a:off x="395280" y="1454040"/>
            <a:ext cx="8042400" cy="574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54040"/>
                      <a:ext cx="8042400" cy="57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395280" y="1450800"/>
              <a:ext cx="8064360" cy="57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1413000"/>
          <a:ext cx="461484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61484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718160" y="1486080"/>
          <a:ext cx="40510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8160" y="1486080"/>
                    <a:ext cx="40510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50920" y="3933720"/>
          <a:ext cx="4680000" cy="329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3933720"/>
                    <a:ext cx="468000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6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вод в действие мощностей инженерной инфраструктуры в сельской местности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также ввод и приобретение жилых домов (квартир) в рамках целевой программы «Социальное развитие села Курганской области до 2013 года»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981000"/>
            <a:ext cx="405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вень газификации домов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квартир) сетевым газом, %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20920" cy="338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Rectangle 30"/>
          <p:cNvGraphicFramePr/>
          <p:nvPr/>
        </p:nvGraphicFramePr>
        <p:xfrm>
          <a:off x="179280" y="1700280"/>
          <a:ext cx="4322880" cy="35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Rectangle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00280"/>
                    <a:ext cx="432288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772160" y="3357720"/>
            <a:ext cx="4119480" cy="312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88000" y="2781360"/>
            <a:ext cx="405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rmAutofit fontScale="84000"/>
          </a:bodyPr>
          <a:p>
            <a:pPr algn="ctr">
              <a:spcBef>
                <a:spcPts val="349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овень водообеспечения 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ьского населения , %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64" name="Rectangle 30"/>
          <p:cNvGraphicFramePr/>
          <p:nvPr/>
        </p:nvGraphicFramePr>
        <p:xfrm>
          <a:off x="4643280" y="3284640"/>
          <a:ext cx="4148280" cy="34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Rectangle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284640"/>
                    <a:ext cx="414828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Rectangle 30"/>
          <p:cNvGraphicFramePr/>
          <p:nvPr/>
        </p:nvGraphicFramePr>
        <p:xfrm>
          <a:off x="-181080" y="692280"/>
          <a:ext cx="662472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Rectangle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692280"/>
                    <a:ext cx="662472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ичество сельских семей, улучшивших жилищные условия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 период 2003-2012 годо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311720"/>
            <a:ext cx="3564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58680"/>
            <a:ext cx="8124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лотный проект комплексной компактной застройки и благоустройства с.Чистопрудное Шадринского район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ганской области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113080" cy="2532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3049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352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роприятия программы устойчивого развития сельских территорий до 2020 го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ение жилищных условий граждан, проживающих в сельской местности, в том числе молодых семей и молодых специалистов.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омплексное обустройство населенных пунктов, расположенных в сельской местности, объектами социальной и инженерной инфраструктуры: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сети общеобразовательных учреждений в сельской местности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сети плоскостных спортивных сооружений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сети учреждений культурно-досугового типа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газификации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водоснабжения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роектов комплексной компактной застройки.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Грантовая поддержка местных инициатив граждан, проживающих в сельской местности.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440" y="58320"/>
            <a:ext cx="815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новные подходы к формированию мероприятий программы устойчивого развития сельских территорий до 2020 го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имущественное обустройство сельских поселений, в которых развивается агропромышленное производство, реализуются инвестиционных проекты в агропромышленной сфере;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ное планирование развития территорий и размещений объектов в соответствии со схемами территориального планирования  Курганской области, муниципальных районов и генеральных планов сельских поселений;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механизмов государственно-частного партнерства и привлечение средств внебюджетных источников для финансирования мероприятий Программы.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3:40:52Z</dcterms:created>
  <dc:creator>Еланцева</dc:creator>
  <dc:description/>
  <dc:language>en-US</dc:language>
  <cp:lastModifiedBy>Пользователь</cp:lastModifiedBy>
  <dcterms:modified xsi:type="dcterms:W3CDTF">2013-03-01T05:25:38Z</dcterms:modified>
  <cp:revision>1174</cp:revision>
  <dc:subject/>
  <dc:title>КУРГАНСКАЯ ОБЛАСТЬ</dc:title>
</cp:coreProperties>
</file>